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A529-83A5-47F5-81C1-41D57FD18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041F-0234-481A-BCF3-F0AD3D59D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5DCF-2980-434D-9A19-7F2C73537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8F60-5E06-4993-B888-0BAA947F2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7A5BF-5D96-49F8-97E1-FCBC632B2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9A9E6-825F-4467-BC94-41AB558E5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E0025-1D04-4ABA-AD88-0B484BA42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6FDBB-1C79-4C2D-8B60-92CBA784D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89C16-548B-4924-8216-D9F61861D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52419-4B61-405C-A958-361B7FF53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13E2D-3E65-4C5E-A60A-7231B202C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668B-62F3-41B6-A142-C6069A0C0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790D6-A26C-4B14-A841-B7EDC3AC5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DAE02-46ED-4DC2-89C5-77FC6BBA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DBB20-D3A9-44D9-9869-EDEF94CD5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F2B3E-4A5B-472E-9217-D6B005BFE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5798E-4AD1-48A2-BF09-74FA229D9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3FC7-BA95-4A09-AD03-DC9A509D3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3A36-B9B4-4A30-B5B1-E8C527124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719C-F98D-49F4-941A-BC9EE2E5D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DE23-5DB6-4583-B916-37B66D97E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45DB-864A-4E68-ABE8-7D87C3EBC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6869-49D1-4AD0-B1E1-52EAFCE6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B113-29A1-4DF1-8BEB-0406628A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ARTHSEPA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338E2-A362-4C88-B00F-F5F7449E43C0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62DB2-EB8F-448F-A215-1B7C3569442D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7160" y="658800"/>
            <a:ext cx="86374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cc"/>
                </a:solidFill>
                <a:latin typeface="Adobe Garamond Pro Bold"/>
              </a:rPr>
              <a:t>Mohsin </a:t>
            </a: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49280" y="2550960"/>
            <a:ext cx="7485120" cy="198144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8000"/>
                </a:solidFill>
                <a:latin typeface="Arial"/>
              </a:rPr>
              <a:t>Country         :: Pakista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8000"/>
                </a:solidFill>
                <a:latin typeface="Arial"/>
              </a:rPr>
              <a:t>Me in class    ::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 10th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cc00"/>
                </a:solidFill>
                <a:latin typeface="Arial"/>
              </a:rPr>
              <a:t>My interest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    :: footbal, cricke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66"/>
                </a:solidFill>
                <a:latin typeface="Arial"/>
              </a:rPr>
              <a:t>My favourite subject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:: arts, histor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00200" y="5334120"/>
            <a:ext cx="6858000" cy="1015920"/>
          </a:xfrm>
          <a:prstGeom prst="rect">
            <a:avLst/>
          </a:prstGeom>
          <a:solidFill>
            <a:srgbClr val="ffcc00"/>
          </a:solidFill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Proud to be the part of Asia Europe Class Network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And thank you for giving me a chance in HisBulPic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0" name="pakistan" descr=""/>
          <p:cNvPicPr/>
          <p:nvPr/>
        </p:nvPicPr>
        <p:blipFill>
          <a:blip r:embed="rId2"/>
          <a:stretch/>
        </p:blipFill>
        <p:spPr>
          <a:xfrm>
            <a:off x="7086600" y="533520"/>
            <a:ext cx="145080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3T10:55:33Z</dcterms:created>
  <dc:creator>pasha</dc:creator>
  <dc:description/>
  <dc:language>en-US</dc:language>
  <cp:lastModifiedBy>Sumi</cp:lastModifiedBy>
  <dcterms:modified xsi:type="dcterms:W3CDTF">2010-01-26T23:59:42Z</dcterms:modified>
  <cp:revision>29</cp:revision>
  <dc:subject/>
  <dc:title>MR. HAROON </dc:title>
</cp:coreProperties>
</file>